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5CDC-81FA-4661-BBBA-25C4FDFC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835-DF92-45A2-B061-3CD283D4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451-7D5D-49EC-97E8-5F62FB51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A06-D60F-4DBD-9646-898EB94B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C16-AC06-46AE-9A34-A4C6A577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4D7-6B21-4DD1-B334-25D590A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D56-1847-48DD-85E3-BE03B04B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97F-9649-462D-92C7-00195D97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816-1FCF-471C-930D-92F99426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2392-CECA-4B28-89FA-75138C22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D68-7F33-410F-AA88-1FD2C6EE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BB3E-2B53-425C-AA90-7858EB7D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9936-D621-4E55-B4F5-261485941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320840"/>
            <a:ext cx="844560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otal Participation Techniques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rsida Himmele &amp; William Himme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5486400"/>
            <a:ext cx="661536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verview Provided by WSU MEd in CI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I 837 Students, Fall 201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4: On-the-Spot TP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95440" y="1219320"/>
            <a:ext cx="6265800" cy="88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... More on-the-spot TPTs..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rocessing Cards: "Still Thinking" or "Ready to Share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imiles: Show relationships between top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Ranking: Sequencing items, order of importance, etc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Numbered Heads Together: Assign numbers to students in a group, after project completion, call a number to have share their group's inform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umbs Up/Down Vote: Thumb up to vote "Yes". down to vote "No"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969320" y="6603840"/>
            <a:ext cx="1857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. Goug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11360" y="2743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5: TPT Hold-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600" y="1422000"/>
            <a:ext cx="448776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at are hold-ups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Hold-ups are interactive activities that use response cards.  Students confer with a partner or small group and respond to a question by holding up a card with their answer on it. 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y use hold-ups in my classroo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Hold-ups improve student participation and on-task behavio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24040" y="1823760"/>
            <a:ext cx="458172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                 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. Mas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5283360" y="2235240"/>
            <a:ext cx="43304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5: TPT Hold-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320" y="1523520"/>
            <a:ext cx="9661320" cy="57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1.  Selected-Response Hold-Ups - Students hold up cards that may include responses such as fact/opinion, true/false, pictures, facial expressions, or yes/n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2.  Number Card Hold-Ups - Stud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spond to mathematical question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ith 0-9 number car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3.  True/Not True Hold-Ups - Students respond to questions in all content areas with true, not true, true with modifications, or unable to determ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705720" y="2946240"/>
            <a:ext cx="2801880" cy="1868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969320" y="6705720"/>
            <a:ext cx="1697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. Mas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5: TPT Hold-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9200" y="1625760"/>
            <a:ext cx="577224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4.  Multiple-Choice Hold-Ups - Students signal their response to a question by holding up A,B,C, or 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5.  Whiteboard Hold-Ups - Students use individual whiteboards to respond with an answer.  The possibilities of choices to respond with are much wid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6299280" y="3352680"/>
            <a:ext cx="2822400" cy="2637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461360" y="6502320"/>
            <a:ext cx="2104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.Mas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r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6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: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'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v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l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g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o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9760" y="1829880"/>
            <a:ext cx="45799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ovement forms links with mem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oys demonstrate high scores, better behaviors, and postive attitudes with lesson mov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Comic Sans MS"/>
              </a:rPr>
              <a:t>J</a:t>
            </a:r>
            <a:r>
              <a:rPr b="0" lang="en-US" sz="27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0" lang="en-US" sz="2700" spc="-1" strike="noStrike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7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700" spc="-1" strike="noStrike">
                <a:solidFill>
                  <a:srgbClr val="ff9900"/>
                </a:solidFill>
                <a:latin typeface="Comic Sans MS"/>
              </a:rPr>
              <a:t>h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700" spc="-1" strike="noStrike">
                <a:solidFill>
                  <a:srgbClr val="9900ff"/>
                </a:solidFill>
                <a:latin typeface="Comic Sans MS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7280" y="4855680"/>
            <a:ext cx="4527720" cy="24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is chapter gave techniques that used object manipulation, out of seat action, and interaction among pe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689440" y="1709640"/>
            <a:ext cx="29466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7960" y="294840"/>
            <a:ext cx="96631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6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q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s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       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J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9900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Comic Sans MS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9900ff"/>
                </a:solidFill>
                <a:latin typeface="Comic Sans MS"/>
              </a:rPr>
              <a:t>line-ups &amp; inside-outside circle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2.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Three 3's in a row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mic Sans MS"/>
              </a:rPr>
              <a:t>3. Networking Session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4. Categorizing and sorting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5. Appointment Agenda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15920" y="1726920"/>
            <a:ext cx="5272200" cy="55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Comic Sans MS"/>
              </a:rPr>
              <a:t>Students line up in 2 lines &amp; take turns asking questions &amp; answering question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Bingo activity in which peers explain answers generated by teach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mic Sans MS"/>
              </a:rPr>
              <a:t>Students find different kids to partner with to answer each question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Students sort objects into different pi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Teacher provides sign up sheets for students to sign up answer questions each hour with different partn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6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q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s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       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J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9900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5640" y="1828800"/>
            <a:ext cx="43225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6. Bounce Card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ff"/>
                </a:solidFill>
                <a:latin typeface="Comic Sans MS"/>
              </a:rPr>
              <a:t>7. Mouth it, air write it, show me using your finger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omic Sans MS"/>
              </a:rPr>
              <a:t> </a:t>
            </a:r>
            <a:r>
              <a:rPr b="0" lang="en-US" sz="1900" spc="-1" strike="noStrike">
                <a:solidFill>
                  <a:srgbClr val="0000ff"/>
                </a:solidFill>
                <a:latin typeface="Comic Sans MS"/>
              </a:rPr>
              <a:t>8. Acting it out, role-plays, and charad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Comic Sans MS"/>
              </a:rPr>
              <a:t>9. Simulation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Comic Sans MS"/>
              </a:rPr>
              <a:t>10. Cut-and-pat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4400" y="1828800"/>
            <a:ext cx="53737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Card that gives prompts lik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"I agree, because...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"True, another example is when...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"So, if I understand you...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"I see your point, but what ....?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ff"/>
                </a:solidFill>
                <a:latin typeface="Comic Sans MS"/>
              </a:rPr>
              <a:t> </a:t>
            </a:r>
            <a:r>
              <a:rPr b="0" lang="en-US" sz="1900" spc="-1" strike="noStrike">
                <a:solidFill>
                  <a:srgbClr val="9900ff"/>
                </a:solidFill>
                <a:latin typeface="Comic Sans MS"/>
              </a:rPr>
              <a:t>have all the students share their answers at the same t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1900" spc="-1" strike="noStrike">
                <a:solidFill>
                  <a:srgbClr val="0000ff"/>
                </a:solidFill>
                <a:latin typeface="Comic Sans MS"/>
              </a:rPr>
              <a:t>physical movement to present idea or vocabulary wor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Comic Sans MS"/>
              </a:rPr>
              <a:t>experiencing life through someone elses ey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Comic Sans MS"/>
              </a:rPr>
              <a:t>using scissors to cut paper and glue it to another paper in a different order to organizer 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645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45f06"/>
                </a:solidFill>
                <a:latin typeface="Comic Sans MS"/>
              </a:rPr>
              <a:t>Chapter 7: TPTs to Guide Notetak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Note-taking is a skill that should be taught to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allow students to stop and process newly acquired information presented to th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should be used every 8-10 minutes during a les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should not be used just as a closing activity but throughout to help students comprehens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45f06"/>
                </a:solidFill>
                <a:latin typeface="Comic Sans MS"/>
              </a:rPr>
              <a:t>Chapter 7: TPTs to Guide Notetak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7680" y="1422000"/>
            <a:ext cx="96645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Confer, Compare, and Clarify:</a:t>
            </a:r>
            <a:r>
              <a:rPr b="0" lang="en-US" sz="2700" spc="-1" strike="noStrike">
                <a:solidFill>
                  <a:srgbClr val="e69138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llows students to see others notes, reflect on lesson content and ask questions to aid in comprehen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Graphic Organizers and Prepared Packet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lps students with the most important information within the lesson using visual sup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Anticipatory Guide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llows students to make predictions about new learning and follow-up after new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Picture Note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lps students process newly acquired information by drawing pictures at preselected times during the lesson (accompanies written notes)</a:t>
            </a: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45f06"/>
                </a:solidFill>
                <a:latin typeface="Comic Sans MS"/>
              </a:rPr>
              <a:t>Chapter 7: TPTs to Guide Notetak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4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Lecture T-Chart:</a:t>
            </a:r>
            <a:r>
              <a:rPr b="0" lang="en-US" sz="2700" spc="-1" strike="noStrike">
                <a:solidFill>
                  <a:srgbClr val="e69138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take written notes during lecture and at preselected times are allowed to summarize using words/draw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3-Sentence Wrap Up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summarize notes in 3 sentences using the most important inform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A-Z Sentence Summarie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ach student is given a letter of the alphabet and writes a summary sentence using their letter; creates whole class summ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Pause, Star, Rank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review notes to clarify information and rank the 3 most important poi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640" y="299520"/>
            <a:ext cx="9659880" cy="15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1: </a:t>
            </a:r>
            <a:r>
              <a:rPr b="0" i="1" lang="en-US" sz="4300" spc="-1" strike="noStrike">
                <a:solidFill>
                  <a:srgbClr val="ffffff"/>
                </a:solidFill>
                <a:latin typeface="Comic Sans MS"/>
              </a:rPr>
              <a:t>The High Cost of Disengage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9120" y="182736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Question and answer techniques engage only a few students in a classroom. (jc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 teacher's effectiveness has direct impact on the quality of education students receive. (rb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ll people need to think about what they are taught, record their thoughts, compare what they have learned, and ask questions. (Jfishel)  .................Page 4 paragraph 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n effective teacher has a tremendously positive effect on students--even more than class size, race, or SES.  (SS, page 6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45f06"/>
                </a:solidFill>
                <a:latin typeface="Comic Sans MS"/>
              </a:rPr>
              <a:t>Chapter 7: TPTs to Guide Notetak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7680" y="1422000"/>
            <a:ext cx="96645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Key-Word Dance:</a:t>
            </a:r>
            <a:r>
              <a:rPr b="0" lang="en-US" sz="2700" spc="-1" strike="noStrike">
                <a:solidFill>
                  <a:srgbClr val="e69138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select most important words associated with topic in notes and create a poem for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Debate Team Carousel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group up in teams of four and complete graphic organizer creating supporting and opposing argu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Technology-Based TPT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reates total engagement of all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logging: student reply to prompts and are allowed to leave others feed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lassroom clickers: fun way to review content in a variety of for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Chapter 8: TPTs as Formative Assessment Too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are Formative Assessme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ssessments that let the teacher know if students understand the topi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sults are used by the teacher to guide lessons plans and pacing.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"Formative assessments can have powerful positive results on student learning because teacher behavior becomes informed and instruction becomes targeted toward specific needs (pg. 103).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Chapter 8: TPTs as </a:t>
            </a:r>
            <a:br>
              <a:rPr sz="3500"/>
            </a:b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Formative Assessment Too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mative Assessment Activiti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Chalkboard Splashe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After a reading students take turns writing ideas on the board and visiting with their peers.  Then students look for similarities, differences and surprises.  Teachers will see terms that students find confusing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Hold-Up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Is a quick assessment to let teachers know if students understand a concept.  This activity can be followed up with chalkboard splash.                        Si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112160" y="406440"/>
            <a:ext cx="20826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Chapter 8: TPTs as Formative Assessment Too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mative Assessment Activitie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Reading Your Student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Teachers can view student journals or quick-writes to assess student's understanding of concep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The One-Liner Wall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  Teacher selects a sentence from student work and displays it on a wall for all to see and talk about.  This can help struggling students and encourage others.                                                     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Chapter 8: TPTs as Formative Assessment Too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TPTs and Student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se assessments through TPT are important and should be documented as a grade.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eep records of student progress and checklists.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eep student portfoli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486400" y="1625760"/>
            <a:ext cx="400860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9: Building a TPT-Conducive Classroo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 order for TPT to work, teachers must become comfortable with losing some of their "talking time" and letting children take the reign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must have confidence in their teacher, in their peers and in themselves, while teachers need to build confidence in their student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"What have you done today to build trust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                                      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. Web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8229600" y="4876920"/>
            <a:ext cx="129384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9: Building a TPT-Conducive Classroo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ippling Ques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air students up and have them discuss the topic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air up pairs of students, so it is a group of four, to discuss their idea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eep adding groups until you have whole group particip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will feel more comfortable sharing answers if they have had time to discuss them with their peers before sharing out in a whole group sett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                                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. Webber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6197760"/>
            <a:ext cx="5303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9: Building a TPT-Conducive Classroom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alk around and provide feedback while students are discussing the topi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stead of looking for a right or wrong answer, ask students to justify their answ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sk "Tell me more" to understand their thinking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                                          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. Web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15920" y="4673520"/>
            <a:ext cx="701208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ffffff"/>
                </a:solidFill>
                <a:latin typeface="Comic Sans MS"/>
              </a:rPr>
              <a:t>Chapter 1: The High Cost of Disengage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teachers who are considered excellent teachers engage their students actively and cognitively but also emotionally. MW (page 7)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rough Total Participation Techniques all students are demonstrating that they are learning and interacting. (KM, page 7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allow students to become so actively involved in learning that they forget about all their outside issues and focus on their learning at school. (TR, pg 11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effectively take the focus off teaching, and puts it on what, and to what extent, students are learning. (CG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5880" y="304920"/>
            <a:ext cx="9667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Chapter 2: A Model for Total Participation &amp; Higher-Order Think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8880" y="1825560"/>
            <a:ext cx="662940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purpose of TPTs (Total Participation Techniques) is to aim for deeper learning and engag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PTs require the use of higher-order thinking skills to ensure that students are cognitively engaged. 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eachers must structure classroom content to ensure that learning will be engaging to all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and is meaningfu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807240" y="2336760"/>
            <a:ext cx="2957400" cy="2981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7257960" y="6705720"/>
            <a:ext cx="2422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. Bee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5880" y="304920"/>
            <a:ext cx="9667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Chapter 2: A Model for Total Participation &amp; Higher-Order Think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15920" y="1727280"/>
            <a:ext cx="5270760" cy="55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 TPT Cognitive Engagement Model was created to help visualize the connection between student participation and higher order think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ost classroom activities should fall within the 4th quadrant of high cognition and high participation to ensure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aximum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student learning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06440" y="1727280"/>
            <a:ext cx="4140000" cy="4127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26960" y="6502320"/>
            <a:ext cx="2519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. Bee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3: Total Participation Techniques Tools and Suppl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Show me</a:t>
            </a: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"as you place greater expectations on student participation and on all students providing evidence of cognitive engagement opposed to question-answer ses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For "Show Me" sessions use: individual slates, laminated light colored construction paper and flannel sock could work, true/not true cards could be used for several activities, multiple choice cards, processing card (lets the teacher know where the student is in their thinking process) A. Bol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3: Tools &amp; Suppl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320" y="1836720"/>
            <a:ext cx="4584600" cy="75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*Think, Pair, Share- think about it, pair up with a partner, share to each &amp;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AUSE TO APPLY any of these! Ensure they're ther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*H.O.T - how do these components think together or affect one anothe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*Quick writes- write to reflect    A. Bolain                                  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384880" y="1257480"/>
            <a:ext cx="4132080" cy="3027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6197760" y="4775040"/>
            <a:ext cx="2608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4: On-the-Spot TP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9200" y="1117080"/>
            <a:ext cx="8989920" cy="79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as this ever happened to you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You have an amazing lesson planned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ings are going great... or so you think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n you look up and realize that you were alone in this boa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You need to get this class engaged and you need to do it NOW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Use an On-the-Spot TPT!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is an On-The-Spot TP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Quick, 1-5 minute, activ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ngages ALL student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Virtually NO preparation required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Can be used as ne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Could be planned for during select times of your less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7969320" y="6603840"/>
            <a:ext cx="1857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. Goug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6299280" y="3454560"/>
            <a:ext cx="2066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4: On-the-Spot TP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440" y="1320480"/>
            <a:ext cx="6146640" cy="86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re are some quick, one-the-spot TPTs that will help your class get back on board with you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ink-Pair-Share: Ask a question, give think time, students pair up and discuss their respons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Quick-Write: Construct written responses to a given promp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Quick-Draw: Illustrate a given top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Chalkboard Splash: A composition of everyone's responses to a promp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umbs-Up When Ready: Hand signal to move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7969320" y="6603840"/>
            <a:ext cx="1857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. Goug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6807240" y="3048120"/>
            <a:ext cx="27604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sbarker</cp:lastModifiedBy>
  <dcterms:modified xsi:type="dcterms:W3CDTF">2012-03-13T17:24:39Z</dcterms:modified>
  <cp:revision>1</cp:revision>
  <dc:subject/>
  <dc:title>PowerPoint Presentation</dc:title>
</cp:coreProperties>
</file>